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235-09A7-47BC-89B3-7CC8A74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BC3-BFE4-43B6-A7B9-98532C8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A79-9DA7-4548-BB5B-DF95FE4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90A-9138-446F-8995-5E3C8E63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CC3-42B1-40A0-AAD3-E93AE64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8BD-E5DA-4763-9022-C7158434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168-BE9F-496F-B62E-D49DD45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A5E-352A-466B-A946-F6C87117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E66-D23D-4B1B-99C1-AFD607F9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16F-6EE2-4E29-B4E5-A264A5C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ED7-BDA5-4326-9A48-205001D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B2A-30BB-4A97-AEF8-FF36BFC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7D4-C128-466B-A5A6-8B857EA6D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A694-CD0F-4568-82DD-968AD87AF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amgalileo.wikispaces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amgalileo.wikispaces.com/Skills+Workshop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tere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cribe your team project topic and explain the different s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ction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ptions Tr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a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Wiki, Presentation, photo, video, letter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you think your greatest achievement was this term?  What are you most proud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ill you be a different learner next term? What things will you do differently in clas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s there anything you would like to improve on next term? What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learning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your learning goals at the start of the ter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ve improved on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st the Trails you have been on this term (some of these are listed at: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mgalileo.wikispaces.com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Trai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r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st the Skills Workshops you have done this term (a list of these are can be found here: </a:t>
            </a:r>
            <a:r>
              <a:rPr b="0" lang="en-A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teamgalileo.wikispaces.com/Skills+Workshop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blic Spe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Skill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Knowledge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Calibri"/>
              </a:rPr>
              <a:t>Personal Qualities I have lear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kills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 a piece of evidence to show your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: Blog, Wiki, Presentation, photo, story, hand out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ty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cribe what you did at Community Service and what school you were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Mollie Bobeff</cp:lastModifiedBy>
  <dcterms:modified xsi:type="dcterms:W3CDTF">2010-03-24T03:55:47Z</dcterms:modified>
  <cp:revision>5</cp:revision>
  <dc:subject/>
  <dc:title>Name</dc:title>
</cp:coreProperties>
</file>